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8D4-2CED-4846-A715-33AD1D40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649-39AD-488D-BE68-1BF8DDBC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EB3-70B1-4A50-BD13-31C60080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1DF-77BA-4899-978F-F4C096E7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AA5C-7D39-420D-9307-F18633D0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2791-C5CC-4FD6-B210-1D1D2280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1EE6-10B2-462E-93A9-4D35A12B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BD1F-03F4-40B3-AE87-A6C13EB4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FED0-7A62-4A46-9328-5747F5C1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4738-6127-4EEF-BE6E-E8C4B40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A883-3EDC-4647-877D-1605CC7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9D9-1A79-4511-8C08-85F0F31C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0973-49D3-4B0C-BB9F-BA1AEB0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1452-46B3-43BF-B6C2-F752D2E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CFDA-35DE-4D16-99A4-BEE47AAD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2C1A-0D5E-40A2-8B96-674D838F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B9CF-5916-46A3-8131-63B9E493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91E-DFD8-4BAA-9E6C-3B17B32B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E6D-16F6-4661-B57A-6655CD5B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877-16DF-4119-9317-CAD37DD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73A-386C-482E-8D83-20D83B2B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2D8-729A-4F67-AFCB-F9EFE6E3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B29-26B4-4B98-B096-3B6EB786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A33-8180-434E-874E-F170A8D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72AA-69A6-4DA6-90E6-CA2DBEC8F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0881-9B09-4461-8D25-38A313343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The Constitutional Conven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5334120" cy="351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4360" y="5867280"/>
            <a:ext cx="522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historyteacher.net/AHAP/WebQuests/WQ-ConstitutionalConvention/ConstituitonalConventionPtg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19520"/>
            <a:ext cx="2743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delegates gathered in Philadelphia during the summer of 17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question was whether or not states with large numbers of slaves should be able to count them for purposes of re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3/5 Comprom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ctated that blacks be counted as three-fifths of a white resident for purposes of re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ing another political bullet, the founders agreed that slavery as an institution could not end for at least twen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Rise of Federalism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upporters who wanted a strong, cent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-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upporters who feared a strong, central government and wanted states to hold most of th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89560" y="1295280"/>
            <a:ext cx="16207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43800" y="2236680"/>
            <a:ext cx="1295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i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1981080" cy="190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411160" y="6095880"/>
            <a:ext cx="2137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www.idea-sandbox.com/blog/blog_images/thomas_jefferson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9960" y="3581280"/>
            <a:ext cx="3413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upload.wikimedia.org/wikipedia/commons/thumb/c/ca/Alexander_Hamilton.jpg/425px-Alexander_Hamilton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4876920"/>
            <a:ext cx="1295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8880" y="-60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Struggle Over Ratification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ok less than a year to secure the nine states needed to win ra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81080" y="2144880"/>
            <a:ext cx="51055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Grand Conven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gathered at Independence Hall in Philadelphia, Pennsylvania in 1787 to draft a blueprint for a new and better form of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495680" cy="3057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16080" y="4876920"/>
            <a:ext cx="1716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www.geocities.com/sharpphotos/philly/indhall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otable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Delegat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25920" y="1981080"/>
            <a:ext cx="2394000" cy="2819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2200" y="4800600"/>
            <a:ext cx="2584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artofmanliness.com/wp-content/uploads/2008/02/ben_franklin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819160" cy="2335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840" y="4419720"/>
            <a:ext cx="2462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coolaggregator.files.wordpress.com/2008/07/george-washington-picture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2173320" cy="2908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77120" y="4952880"/>
            <a:ext cx="1963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i24.photobucket.com/albums/c8/thomasn528/madison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105520"/>
            <a:ext cx="266688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hosen as the convention president -- all deliberations were to be kept secr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5800" y="510552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jamin Frank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ldest at age 8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18440" y="5105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 Mad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otably Absen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Jefferson and John Adams (both serving as ambassadors in Europe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2578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ick Henry refused to attend, believing that state governments offered the best protection for personal liberties. He worried that a strong national government would erode the ideals fought for during the revolu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971800" cy="271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6120" y="4724280"/>
            <a:ext cx="2530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richmondthenandnow.com/Images/Famous-Visitors/Thomas-Jefferson-big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2117520" cy="257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91320" y="4572000"/>
            <a:ext cx="2661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www.americanheritage.com/assets/images/articles/web/20080320-JohnAdams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0800" y="380880"/>
            <a:ext cx="4194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greemen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01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s of Confederation needed to be fi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government must have authority to tax people, raise and support armed forces, regulate commerce/trade, and make and enforce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ed idea of separating government into 3 branches to guard against abuse of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8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reas of Conflic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29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power be divided between states and the national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states with small populations and states with large populations be represented fair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states from the north, whose economies were not so tied to slavery, compromise with states from the south whose economies relied heavily on slave lab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888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romises over Representation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381880" cy="44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381880" cy="4492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715000" y="24382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abb"/>
                </a:solidFill>
                <a:latin typeface="Arial"/>
              </a:rPr>
              <a:t>Which states had the largest total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abb"/>
                </a:solidFill>
                <a:latin typeface="Arial"/>
              </a:rPr>
              <a:t>Which states had the largest slave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afting the Constitu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irginia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for proportional representation.  States with a large population favored this plan, since they would have more represent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Jersey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for equal representation. States with a small population favored this plan, since they would have an equal number of representatives compared to large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d for two houses in Congress — one based on proportional representation and one based on equal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5638680"/>
            <a:ext cx="2971800" cy="762120"/>
          </a:xfrm>
          <a:prstGeom prst="bevel">
            <a:avLst>
              <a:gd name="adj" fmla="val 12500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8672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se of Represent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5638680"/>
            <a:ext cx="2971800" cy="762120"/>
          </a:xfrm>
          <a:prstGeom prst="bevel">
            <a:avLst>
              <a:gd name="adj" fmla="val 12500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58672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64008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representation based on population (today 435 me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64008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representation (today 100 members - 50 states X 2 Senators e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avery Under Attack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4724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790, every state except South Carolina and Georgia had abolished the importatio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aves within their b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, a higher proportion of slaves were American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616480" cy="2921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248160" y="5486400"/>
            <a:ext cx="201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i174.photobucket.com/albums/w95/guate210/ESCLAVE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HS Teacher</cp:lastModifiedBy>
  <dcterms:modified xsi:type="dcterms:W3CDTF">2008-10-02T01:05:42Z</dcterms:modified>
  <cp:revision>27</cp:revision>
  <dc:subject/>
  <dc:title>Chapter 7 Consolidating the Revolution</dc:title>
</cp:coreProperties>
</file>